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584D-D604-4382-8F87-827FC49A4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941A-2EF3-4533-9A53-C927E0DCA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D9D8-7B9E-4AEE-AF17-C621423F7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3603-237E-4FBF-B821-C833CFE1A5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6518-90C3-4DE6-BE24-CB4449CAA1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BF38-BCD5-4804-BD9F-A49B72683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DDEE-4053-4CAF-A560-A8BE71346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1CB1-9FBA-4264-B77F-C357BE308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2D99-5989-4E2D-9AC0-DBED0AFCE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E4EA-5DC6-4117-8534-D2F15853B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19A1-5D2E-457E-A8B0-D45C8F754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1C6C-6978-4319-9E9F-A92E8F158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B28F2-9E6E-4EAB-AD0E-B9DFB0F114F2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295280" y="304920"/>
            <a:ext cx="7848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304920" y="28954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Module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Lecture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ELECTROTHERAPY</a:t>
            </a:r>
            <a:br>
              <a:rPr sz="3600"/>
            </a:b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Alternating currents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76320" y="227160"/>
            <a:ext cx="14414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ferential currents (IFC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C are low-frequency alternating currents of a sinusoidal shape which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occur endogenously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the tissues, by interference (superposition) of the middle-frequency currents from two independent circuits, which differ in frequency from 0-100 Hz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C are obtained by crossing power lines of two middle-frequency circuits which have a different frequency and the same strength. By phenomenon of interference, at a site of crossing,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bio-pow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obtained, whose frequency amounts to the difference in frequency of the component currents, that’s why they are called 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“crossed curren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ferential currents (IF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quency of one circuit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lways constant and amounts to 4000Hz. The other circuit has a variable frequency which amounts from 3900 to 4000Hz or 4000 to 4100Hz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btained current- IFC (C) can be constant or rhythmically variable within the range from 0 to 100Hz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sides its frequency, a current changes its intensity of interference from maximal interference (100%) to 0 and vice vers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ological effect of IC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219320" y="160020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1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stimulatory effect on the neuromuscular system, causing muscle contraction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50 Hz -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mulatory eff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10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ighly trophic effect, antiedematous, analgesic eff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 100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Hz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timulate bone heal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rrent with a rhythmic frequenc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90 to 10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as sympaticolytic and analgesic effec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ummed biological effects of IC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imulatory on the blood flow, causing vasodilation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leads to the increased blood flow and oxygenation of the tissues, as well as faster toxin and pain mediator elimin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ges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ecause of improved circulation and oxygenation of the tissues and the effect it has on nerve ending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ed excitability and conductability of the peripheral nerv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has a stimulatory effect on the damaged nerv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hibitory effect on the sympaticus and stimulatory on the parasympatic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e of the lymph flow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resorption of ed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roved muscle mass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and promoted wound heal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imulated formation of callus in fractu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e of pH value towards the alcalinity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ti-inflammatory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creasing circulation, metabolism and resorp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imulatory on the transversely-striated and smooth muscle fib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sing of I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99072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ength of a current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a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uration of the application tim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to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 minu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umber of treatments</a:t>
            </a: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lim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ions for I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189080" y="1279440"/>
            <a:ext cx="792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-traumatic conditions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us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ort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xat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fractures and its complication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eudoarthr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Sudeck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vical and lumbar syndrom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algia, neurit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after the nerve inju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hrit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thr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Bekhterev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H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heumatoid arthritis, non-articular rheuma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b. Burge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ynau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gh-frequency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an alternating current with a frequency over 300 kHz. HFC represents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pecific form of thermotherap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ich uses heat, obtained by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onversio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electrical power, to be absorbed by tissue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heat produced this way in the organism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s called endogenous heat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ecause it is developed in the tissues themselves, unlike the exogenous heat, which acts externally on the ski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F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rt-wave diathermi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286000" y="2057400"/>
            <a:ext cx="5029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,12 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1,06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,56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7,1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H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219320" y="1600200"/>
            <a:ext cx="77724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effect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219320" y="3924360"/>
            <a:ext cx="777240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ary effects of H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5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irc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nervous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mus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onnective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metabolism and enzyme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ostatic and bactericida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NG CUR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intensity an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Direction of ion fl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304920"/>
            <a:ext cx="838224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ctrodes for SWD and methods of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042920" y="206064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halcogenide glass electrodes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ic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late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rubber electrodes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Rabb’s electrodes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ic field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il of an electrode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onode and mi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nduction cable or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ing of intensity is performed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t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ximal dose is up to 100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e is usually determin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sed on the subject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tient’s feeling, whereby pleasant and mild warmth should be fe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ing on the radiation intensity, the following doses may be appli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A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warmth is not f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Oligo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only mild warmth is f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Thermal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when pleasant warmth is felt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Hyper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strong warmth is fe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ation of the application time is from 15 to 20 minu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ions for SW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heumatic diseases in chronic s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itions after the injury of the locomotive apparatus (except the acute on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diseases (neuralgia and neu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c diseases of ear, nose and throat (sinusitis, otiti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ynecological chronic non-specific inflammatory diseases (adnexitis, parametritis, salpingitis, adhesions after gynecological surgeries, primary and secondary ster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c non-specific pulmonary diseases (chronic bronchitis, after pneumonia and exudative pleuritis, lung absc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n diseases: furunculosis, carbuncle, hydroadeni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diseases (neuralgia and neu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Contraindications for SW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ute inflammations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brile conditions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alignant tumor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Tuberculosi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Bleeding tendenc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enstruatio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etal objects at the site of applic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Pregnanc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cave abortus)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Obliterating endarteriti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Unadequate sensory response to thermal stimuli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recautionary measures!!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752480" y="1905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ce-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oden bed or wooden c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aring aid and w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 im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rad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6386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Faraday 183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symmetr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rregularity of a 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nly historical impor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762120" y="1905120"/>
            <a:ext cx="4033800" cy="4520880"/>
            <a:chOff x="762120" y="1905120"/>
            <a:chExt cx="4033800" cy="4520880"/>
          </a:xfrm>
        </p:grpSpPr>
        <p:sp>
          <p:nvSpPr>
            <p:cNvPr id="49" name="Line 4"/>
            <p:cNvSpPr/>
            <p:nvPr/>
          </p:nvSpPr>
          <p:spPr>
            <a:xfrm>
              <a:off x="798480" y="4642200"/>
              <a:ext cx="3997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 flipV="1">
              <a:off x="762120" y="1919160"/>
              <a:ext cx="0" cy="2561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Line 6"/>
            <p:cNvSpPr/>
            <p:nvPr/>
          </p:nvSpPr>
          <p:spPr>
            <a:xfrm flipV="1">
              <a:off x="763560" y="1905120"/>
              <a:ext cx="0" cy="2659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939960" y="3168000"/>
              <a:ext cx="371160" cy="24278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2427840"/>
                <a:gd name="textAreaBottom" fmla="*/ 2428200 h 2427840"/>
              </a:gdLst>
              <a:ahLst/>
              <a:rect l="textAreaLeft" t="textAreaTop" r="textAreaRight" b="textAreaBottom"/>
              <a:pathLst>
                <a:path w="360" h="1410">
                  <a:moveTo>
                    <a:pt x="0" y="960"/>
                  </a:moveTo>
                  <a:cubicBezTo>
                    <a:pt x="75" y="480"/>
                    <a:pt x="150" y="0"/>
                    <a:pt x="180" y="60"/>
                  </a:cubicBezTo>
                  <a:cubicBezTo>
                    <a:pt x="210" y="120"/>
                    <a:pt x="150" y="1230"/>
                    <a:pt x="180" y="1320"/>
                  </a:cubicBezTo>
                  <a:cubicBezTo>
                    <a:pt x="210" y="1410"/>
                    <a:pt x="330" y="720"/>
                    <a:pt x="360" y="60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1425600" y="2355840"/>
              <a:ext cx="165240" cy="32925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210" h="2010">
                  <a:moveTo>
                    <a:pt x="0" y="1350"/>
                  </a:moveTo>
                  <a:cubicBezTo>
                    <a:pt x="90" y="675"/>
                    <a:pt x="180" y="0"/>
                    <a:pt x="180" y="90"/>
                  </a:cubicBezTo>
                  <a:cubicBezTo>
                    <a:pt x="180" y="180"/>
                    <a:pt x="0" y="1770"/>
                    <a:pt x="0" y="1890"/>
                  </a:cubicBezTo>
                  <a:cubicBezTo>
                    <a:pt x="0" y="2010"/>
                    <a:pt x="150" y="870"/>
                    <a:pt x="180" y="810"/>
                  </a:cubicBezTo>
                  <a:cubicBezTo>
                    <a:pt x="210" y="750"/>
                    <a:pt x="180" y="1440"/>
                    <a:pt x="180" y="1530"/>
                  </a:cubicBezTo>
                  <a:cubicBezTo>
                    <a:pt x="180" y="1620"/>
                    <a:pt x="180" y="1380"/>
                    <a:pt x="180" y="135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2760840" y="3060360"/>
              <a:ext cx="431640" cy="24847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484720"/>
                <a:gd name="textAreaBottom" fmla="*/ 2485080 h 2484720"/>
              </a:gdLst>
              <a:ahLst/>
              <a:rect l="textAreaLeft" t="textAreaTop" r="textAreaRight" b="textAreaBottom"/>
              <a:pathLst>
                <a:path w="540" h="1920">
                  <a:moveTo>
                    <a:pt x="0" y="1320"/>
                  </a:moveTo>
                  <a:cubicBezTo>
                    <a:pt x="75" y="660"/>
                    <a:pt x="150" y="0"/>
                    <a:pt x="180" y="60"/>
                  </a:cubicBezTo>
                  <a:cubicBezTo>
                    <a:pt x="210" y="120"/>
                    <a:pt x="180" y="1590"/>
                    <a:pt x="180" y="1680"/>
                  </a:cubicBezTo>
                  <a:cubicBezTo>
                    <a:pt x="180" y="1770"/>
                    <a:pt x="150" y="570"/>
                    <a:pt x="180" y="600"/>
                  </a:cubicBezTo>
                  <a:cubicBezTo>
                    <a:pt x="210" y="630"/>
                    <a:pt x="330" y="1920"/>
                    <a:pt x="360" y="1860"/>
                  </a:cubicBezTo>
                  <a:cubicBezTo>
                    <a:pt x="390" y="1800"/>
                    <a:pt x="330" y="330"/>
                    <a:pt x="360" y="240"/>
                  </a:cubicBezTo>
                  <a:cubicBezTo>
                    <a:pt x="390" y="150"/>
                    <a:pt x="510" y="1140"/>
                    <a:pt x="540" y="132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1817640" y="3236400"/>
              <a:ext cx="339840" cy="23421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342160"/>
                <a:gd name="textAreaBottom" fmla="*/ 2342520 h 2342160"/>
              </a:gdLst>
              <a:ahLst/>
              <a:rect l="textAreaLeft" t="textAreaTop" r="textAreaRight" b="textAreaBottom"/>
              <a:pathLst>
                <a:path w="360" h="2220">
                  <a:moveTo>
                    <a:pt x="0" y="1650"/>
                  </a:moveTo>
                  <a:cubicBezTo>
                    <a:pt x="75" y="855"/>
                    <a:pt x="150" y="60"/>
                    <a:pt x="180" y="30"/>
                  </a:cubicBezTo>
                  <a:cubicBezTo>
                    <a:pt x="210" y="0"/>
                    <a:pt x="180" y="1110"/>
                    <a:pt x="180" y="1470"/>
                  </a:cubicBezTo>
                  <a:cubicBezTo>
                    <a:pt x="180" y="1830"/>
                    <a:pt x="150" y="2160"/>
                    <a:pt x="180" y="2190"/>
                  </a:cubicBezTo>
                  <a:cubicBezTo>
                    <a:pt x="210" y="2220"/>
                    <a:pt x="330" y="1740"/>
                    <a:pt x="360" y="165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2368440" y="2708280"/>
              <a:ext cx="228600" cy="37177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360" h="2520">
                  <a:moveTo>
                    <a:pt x="0" y="1410"/>
                  </a:moveTo>
                  <a:cubicBezTo>
                    <a:pt x="75" y="1965"/>
                    <a:pt x="150" y="2520"/>
                    <a:pt x="180" y="2310"/>
                  </a:cubicBezTo>
                  <a:cubicBezTo>
                    <a:pt x="210" y="2100"/>
                    <a:pt x="150" y="300"/>
                    <a:pt x="180" y="150"/>
                  </a:cubicBezTo>
                  <a:cubicBezTo>
                    <a:pt x="210" y="0"/>
                    <a:pt x="330" y="1200"/>
                    <a:pt x="360" y="141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chnique of ap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189080" y="1968480"/>
            <a:ext cx="78026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Stable meth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Bipolar technique with metal plate electro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Labile meth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onopolar technique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. Active electrode is in a shape of a cyllinder or in a shape of a bigger or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smaller brus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Neofarad </a:t>
            </a:r>
            <a:r>
              <a:rPr b="1" lang="sv-SE" sz="44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2438280" y="2438280"/>
            <a:ext cx="5786640" cy="1914480"/>
            <a:chOff x="2438280" y="2438280"/>
            <a:chExt cx="5786640" cy="1914480"/>
          </a:xfrm>
        </p:grpSpPr>
        <p:sp>
          <p:nvSpPr>
            <p:cNvPr id="61" name="Line 3"/>
            <p:cNvSpPr/>
            <p:nvPr/>
          </p:nvSpPr>
          <p:spPr>
            <a:xfrm>
              <a:off x="2468520" y="4316040"/>
              <a:ext cx="5756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4684680" y="3061080"/>
              <a:ext cx="238320" cy="12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6624720" y="3061080"/>
              <a:ext cx="237960" cy="1240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2682720" y="3061080"/>
              <a:ext cx="238320" cy="12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7"/>
            <p:cNvSpPr/>
            <p:nvPr/>
          </p:nvSpPr>
          <p:spPr>
            <a:xfrm flipV="1">
              <a:off x="2438280" y="2438280"/>
              <a:ext cx="0" cy="1914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Rectangle 8"/>
          <p:cNvSpPr/>
          <p:nvPr/>
        </p:nvSpPr>
        <p:spPr>
          <a:xfrm>
            <a:off x="1600200" y="4648320"/>
            <a:ext cx="67816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u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1 ms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20 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used for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diagnostic purp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Neofarad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Has a stimulative effect on the sensory and motor nerves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etanic contraction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t is us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lassic electrodiagno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s labile faradization in psychogenic disor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hysteria and enur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54936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ranscutaneous electrical nerve stimulation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NS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371600" y="29718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Impuls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Usually in an array of impulses of 7 or more very short impuls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mpulse lasts from 0,0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0,4 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and the frequency is fro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75 to 125 Hz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mpulses are triangular or rectangular, biphasic or monoph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2666880" y="1905120"/>
            <a:ext cx="4265640" cy="877320"/>
            <a:chOff x="2666880" y="1905120"/>
            <a:chExt cx="4265640" cy="877320"/>
          </a:xfrm>
        </p:grpSpPr>
        <p:sp>
          <p:nvSpPr>
            <p:cNvPr id="72" name="Line 4"/>
            <p:cNvSpPr/>
            <p:nvPr/>
          </p:nvSpPr>
          <p:spPr>
            <a:xfrm>
              <a:off x="2666880" y="2673360"/>
              <a:ext cx="4265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2681280" y="1905120"/>
              <a:ext cx="0" cy="761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282744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32608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3370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35146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365904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51436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311616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297180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>
              <a:off x="5251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>
              <a:off x="5359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5505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5613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5721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50338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ranscutaneous electrical nerve stimulation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NS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lectrostimulation for p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gate contro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"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sence of endogenous opioid and non-opioid system in achieving the analgesic effect: endorphins and enkephal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-frequency cur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terferential 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Nemec’s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cur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Sinusoid-modulated currents </a:t>
            </a:r>
            <a:r>
              <a:rPr b="1" lang="en-GB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Russian stimulation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Nada Miklja</cp:lastModifiedBy>
  <dcterms:modified xsi:type="dcterms:W3CDTF">2023-09-26T08:53:48Z</dcterms:modified>
  <cp:revision>57</cp:revision>
  <dc:subject/>
  <dc:title>NAIZMENIČNE STRUJE</dc:title>
</cp:coreProperties>
</file>